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0A0E-C96D-485B-B5DE-9ACCD12F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05AF-43FD-47C4-A379-1648E1A6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EF8F-C083-46B6-83B0-ECAACF5F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2212-5389-4C7E-BC09-D2746657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F895-3A1E-4C43-893B-40EBA3E5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CA1A-34C7-4E8C-9297-24CED4D9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0F78-540C-4293-B8C9-544A48EB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FC34-51B8-4648-806D-3738EFFD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828E-BAD0-4705-9844-9DA1475D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6CB5-496F-4181-9B35-F8203641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F0BD-5307-457B-8B7F-F11E5317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478F-0076-4F0A-B0E9-B99DDA2A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DDFE-50AA-4EB8-9B1E-55FA6C36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167C-0CAA-4A06-A710-14D38192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9ACC-F402-4529-8C4F-6E0DC808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AF7B-482B-4DD2-AD12-30D6F8B8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D7E9-487B-423C-8C96-161390D6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72ED4-E84A-4854-A89B-B2139922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5B000-B8A0-4E29-A43B-7AE3EBAA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9133E-8F9E-4135-8BDB-4A016BB6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986F6-6B27-4AAB-9750-A8B5BC23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AC82B-9353-4669-A0DF-E29BBFCB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E76-6C9C-48D4-B2C1-0FF434F9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7E5E2-98BC-40A1-B905-F534B114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07031-A71D-4F7D-9F7F-DDEEF7B8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23FDA-BB42-491F-995C-C43448EC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F047D-67CD-4B82-9919-2E6A9802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30C99-7E5A-4621-9E34-DD92A4DA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3D5E5-2CE3-445E-8AEF-4B9CC35C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BDF30-DE92-4AA5-B30C-BE2FD8B1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AD75C-4A72-4611-A821-C92462B7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AEC22-5720-45EE-9EC9-38C0E922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30076-ACDA-4246-A05E-F0B80FD7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9520-2E6C-4FB6-B76C-B0412158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9E6AB-C339-4CCE-82F4-EE397671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EEF99-28C1-4C63-A4F0-F7AC8059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7F87C-E0E2-45E9-B7A5-0E379439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EF178-0F67-4928-8E63-0D2D80C2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BD621-4BE0-4F10-A728-1772B587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F898D-F16C-4557-A843-8981151B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48BC2-4338-4F31-B678-8BB21091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017CD-E7DF-4F3F-B671-F428EBDC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8FEC3-238A-42DC-9AF7-E23D40A3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30522-7ED2-4B36-9231-6EE603A5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EA0F-DA5E-4B14-8A27-61303E0D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DC102-B619-4B31-987B-E9C2676C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74312-DFCA-4A5C-8AD1-BFDBD60E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E5856-2740-4E95-B7D2-8A130963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23761-B20F-4EDA-AF41-D8FE5635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CA79E-2251-4EDE-94C9-56A5836F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D3240-8AAA-47A5-A1F2-DAA68A46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F3CB3-2891-4DB3-A473-64136694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F80AA-AFEC-4802-82FC-6B9ED6CD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E5DF1-2E36-4227-9203-C51848C4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2940E-5C60-4514-A21A-67FD2C8F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AD78-AEE5-4818-9DFF-1A8E61F7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38C16-589A-469C-A410-14CAB159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9E56-244F-4B6F-91C0-73D171EC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2D2-9DDB-4798-B489-41BC22F1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2846-FF31-493E-93E9-880D0453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2FC3-CF94-4B68-8F37-7BCF05C5F3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1731-2665-4FFF-88FF-C545096215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89AB-FE2E-4081-A36C-1818A97434A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7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3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4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7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8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40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58F3-709E-43FD-B830-F5BCDA05EFF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9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0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0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A08F-528A-46DB-A058-AFBDF7A22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Лекция 7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94920" y="3212640"/>
            <a:ext cx="828036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Моделирование динамики инфляци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АНАЛИЗ РАЗВИТИЯ ИНФЛЯЦИИ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МОНЕТАРНЫЙ ПОДХОД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971640" y="5950080"/>
                <a:ext cx="33843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ω</m:t>
                        </m:r>
                      </m:e>
                      <m:lim/>
                    </m:limUp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</m:e>
                    </m:d>
                    <m:r>
                      <m:t xml:space="preserve">+</m:t>
                    </m:r>
                    <m:limUpp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e>
                      <m:lim/>
                    </m:limUpp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0" y="52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042920" y="2141640"/>
                <a:ext cx="3783240" cy="38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sub>
                        </m:sSub>
                      </m:e>
                      <m:e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инамика экономи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50920" y="2421000"/>
                <a:ext cx="77058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ω</m:t>
                        </m:r>
                      </m:e>
                      <m:lim/>
                    </m:limUpp>
                    <m:r>
                      <m:t xml:space="preserve">=</m:t>
                    </m:r>
                    <m:f>
                      <m:num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Δ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ϕ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ϕ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0" y="5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885080" y="2852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8244000" y="2708280"/>
                <a:ext cx="538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0" y="2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124000" y="4292640"/>
                <a:ext cx="14400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m</m:t>
                        </m:r>
                      </m:e>
                      <m:lim/>
                    </m:limUpp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0" y="3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стояние ”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ady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“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2627280" y="2924280"/>
                <a:ext cx="151308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ω</m:t>
                        </m:r>
                      </m:e>
                      <m:lim>
                        <m:r>
                          <m:t xml:space="preserve">⋅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0" y="4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987640" y="4508640"/>
                <a:ext cx="13683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/>
                    </m:limUpp>
                    <m:r>
                      <m:t xml:space="preserve">=</m:t>
                    </m:r>
                    <m:sSup>
                      <m:e>
                        <m:limUpp>
                          <m:e>
                            <m:r>
                              <m:t xml:space="preserve">p</m:t>
                            </m:r>
                          </m:e>
                          <m:lim/>
                        </m:limUpp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0" y="36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стояние “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ady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835280" y="2781360"/>
                <a:ext cx="28080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ω</m:t>
                        </m:r>
                      </m:e>
                      <m:lim>
                        <m:r>
                          <m:t xml:space="preserve">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ϕ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r>
                                  <m:t xml:space="preserve">m</m:t>
                                </m:r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ω</m:t>
                                </m:r>
                              </m:e>
                              <m:lim/>
                            </m:limUpp>
                          </m:e>
                        </m:d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5580000" y="2637000"/>
                <a:ext cx="17287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r>
                              <m:t xml:space="preserve">π</m:t>
                            </m:r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  <m:lim/>
                        </m:limUp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0" y="37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937400" y="2868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700360" y="4149720"/>
                <a:ext cx="20876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ω</m:t>
                        </m:r>
                      </m:e>
                      <m:lim/>
                    </m:limUpp>
                    <m:r>
                      <m:t xml:space="preserve">=</m:t>
                    </m:r>
                    <m:limUpp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</m:e>
                      <m:lim/>
                    </m:limUpp>
                    <m:limUpp>
                      <m:e>
                        <m:limUpp>
                          <m:e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  <m:lim/>
                        </m:limUpp>
                      </m:e>
                      <m:lim/>
                    </m:limUpp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0" y="361800"/>
          <a:ext cx="8785080" cy="649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1800"/>
                    <a:ext cx="8785080" cy="649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0" y="35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Монетариские правила стабилизации экономи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ольшой уровень инфляции следует понижать проводя “жесткую монетарную политику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авительство, пытающееся поддержать безработицу на постоянном уровне ниже естественного с помощью политики, стимулирующей спрос, должно делать это очень осторожно, так как это провоцирует ускорение инфляци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Динамическая модель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 -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547640" y="1916280"/>
                <a:ext cx="4691160" cy="47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sub>
                        </m:sSub>
                      </m:e>
                      <m:e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ривая совокупного предлож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(1)-(2) выводим уравне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11280" y="3357720"/>
                <a:ext cx="81010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ривая совокупного спро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(3)-(5) выводим уравне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050920" y="3357720"/>
                <a:ext cx="4896000" cy="13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Динамика совокупного спроса и совокупного предложен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619280" y="2060640"/>
                <a:ext cx="4896000" cy="18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e>
                      <m:lim/>
                    </m:limUp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</m:e>
                        </m: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limUpp>
                              <m:e>
                                <m:r>
                                  <m:t xml:space="preserve">m</m:t>
                                </m:r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p</m:t>
                                </m:r>
                              </m:e>
                              <m:lim/>
                            </m:limUpp>
                          </m:e>
                          <m:lim/>
                        </m:limUp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619280" y="4292640"/>
                <a:ext cx="3672000" cy="17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</m:e>
                      <m:lim/>
                    </m:limUpp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limUpp>
                              <m:e>
                                <m:r>
                                  <m:t xml:space="preserve">ω</m:t>
                                </m:r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p</m:t>
                                </m:r>
                              </m:e>
                              <m:lim/>
                            </m:limUpp>
                          </m:e>
                          <m:lim/>
                        </m:limUp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АНАЛИЗ РАЗВИТИЯ ИНФЛЯЦИИ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КЕЙНСИАНСКИЙ ПОДХОД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0" y="5643720"/>
                <a:ext cx="342252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limUpp>
                          <m:e>
                            <m:r>
                              <m:t xml:space="preserve">ω</m:t>
                            </m:r>
                          </m:e>
                          <m:lim/>
                        </m:limUpp>
                      </m:e>
                      <m:lim/>
                    </m:limUp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ϕ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0" y="1916280"/>
                <a:ext cx="4133880" cy="41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o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sub>
                        </m:sSub>
                      </m:e>
                      <m:e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ω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инамика экономики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95280" y="2276640"/>
                <a:ext cx="87487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ω</m:t>
                        </m:r>
                      </m:e>
                      <m:lim/>
                    </m:limUpp>
                    <m:r>
                      <m:t xml:space="preserve">=</m:t>
                    </m:r>
                    <m:f>
                      <m:num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Δ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ϕ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ϕ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δ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0" y="5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95280" y="3284640"/>
                <a:ext cx="12240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m</m:t>
                        </m:r>
                      </m:e>
                      <m:lim/>
                    </m:limUpp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0" y="36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84360" y="5661000"/>
                <a:ext cx="38876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0" y="36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16560" y="582120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 0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539640" y="476280"/>
          <a:ext cx="8604360" cy="621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604360" cy="62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0" y="49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стояние “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eady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619280" y="2205000"/>
                <a:ext cx="151272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ω</m:t>
                        </m:r>
                      </m:e>
                      <m:lim>
                        <m:r>
                          <m:t xml:space="preserve">⋅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0" y="33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619280" y="3645000"/>
                <a:ext cx="338436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ω</m:t>
                        </m:r>
                      </m:e>
                      <m:lim>
                        <m:r>
                          <m:t xml:space="preserve">⋅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ϕ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Δ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r>
                                  <m:t xml:space="preserve">m</m:t>
                                </m:r>
                              </m:e>
                              <m:lim/>
                            </m:limUpp>
                            <m:r>
                              <m:t xml:space="preserve">−</m:t>
                            </m:r>
                            <m:limUpp>
                              <m:e>
                                <m:r>
                                  <m:t xml:space="preserve">ω</m:t>
                                </m:r>
                              </m:e>
                              <m:lim/>
                            </m:limUpp>
                          </m:e>
                        </m:d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0" y="5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476360" y="4941720"/>
                <a:ext cx="23763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ω</m:t>
                        </m:r>
                      </m:e>
                      <m:lim/>
                    </m:limUpp>
                    <m:r>
                      <m:t xml:space="preserve">=</m:t>
                    </m:r>
                    <m:limUpp>
                      <m:e>
                        <m:r>
                          <m:t xml:space="preserve">m</m:t>
                        </m:r>
                      </m:e>
                      <m:lim/>
                    </m:limUpp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00:29:02Z</dcterms:created>
  <dc:creator>Ирина Кавицкая</dc:creator>
  <dc:description/>
  <dc:language>en-US</dc:language>
  <cp:lastModifiedBy>1</cp:lastModifiedBy>
  <dcterms:modified xsi:type="dcterms:W3CDTF">2012-05-20T05:14:22Z</dcterms:modified>
  <cp:revision>4</cp:revision>
  <dc:subject/>
  <dc:title>Слайд 1</dc:title>
</cp:coreProperties>
</file>